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36.jpeg" ContentType="image/jpeg"/>
  <Override PartName="/ppt/media/image37.gif" ContentType="image/gif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EDC-FDE2-43F5-9A6B-668D91AF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56A-77DE-489F-8E72-0252FEC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0AC-099B-4E02-A1B4-4C9F8039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1FA-D5BA-4271-B56A-6343B71D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319-21CB-4225-964F-2CB01F2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9D6-3F2F-4BDC-B12E-EF89DFD5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975-4BB5-4AC8-9E46-C4F974F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BEC-EDDB-4D1A-AE45-55535C50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FF3-D42C-4EBF-BE50-B4D54293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BBF-BF37-4B0D-8BC0-2278F0F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CE7-75BA-4EE4-A407-F6C56A6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6A7-ACE4-4ED6-91BE-CF52266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EE4-D270-47FA-9C71-49D5F558B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ellsalive.com/mitosis.htm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everyschool.org/u/logan/cellreproductionx/rogersa/research/meiosis.html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The Cell Cycle </a:t>
            </a:r>
            <a:br>
              <a:rPr sz="7200"/>
            </a:b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 Cell Division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Pro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Meta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chromosomes fo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attach from daughter cells to chromosomes at the 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line up at the center of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attach from daughter cells to chromosomes at the 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71800" y="4419720"/>
            <a:ext cx="305748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Meta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na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hromosomes divide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pull chromosomes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of each chromosome (called chromotid) moves to each daught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dle fibers pull chromosomes a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½ of each chromosome (called chromotid) moves to each daughter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3180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Ana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Telo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ytoplasm divide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spread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nuclei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wall pinches in to form the 2 new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600" y="152352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spread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nuclei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cell wall forms between to nuclei to form the 2 new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24080" y="3124080"/>
            <a:ext cx="26384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Telo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itosis</a:t>
            </a: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895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ff"/>
                </a:solidFill>
                <a:uFillTx/>
                <a:latin typeface="Arial"/>
                <a:hlinkClick r:id="rId1"/>
              </a:rPr>
              <a:t>http://www.cellsalive.com/mitosis.ht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6520" y="-72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Animal Mitosis --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066680"/>
          <a:ext cx="7391520" cy="5577120"/>
        </p:xfrm>
        <a:graphic>
          <a:graphicData uri="http://schemas.openxmlformats.org/drawingml/2006/table">
            <a:tbl>
              <a:tblPr/>
              <a:tblGrid>
                <a:gridCol w="3733920"/>
                <a:gridCol w="3657600"/>
              </a:tblGrid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76520" y="33526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10080" y="3352680"/>
            <a:ext cx="1905120" cy="127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676520" y="5181480"/>
            <a:ext cx="1904760" cy="127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486400" y="5257800"/>
            <a:ext cx="19051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28800" y="105480"/>
            <a:ext cx="56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Plant Mitosis --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0720" y="914400"/>
          <a:ext cx="8693280" cy="5667480"/>
        </p:xfrm>
        <a:graphic>
          <a:graphicData uri="http://schemas.openxmlformats.org/drawingml/2006/table">
            <a:tbl>
              <a:tblPr/>
              <a:tblGrid>
                <a:gridCol w="4386240"/>
                <a:gridCol w="4307040"/>
              </a:tblGrid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a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o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pha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00200" y="35053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172200" y="3429000"/>
            <a:ext cx="19051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752480" y="5334120"/>
            <a:ext cx="190512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095880" y="5334120"/>
            <a:ext cx="190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he Cell Cycle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48640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1722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244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obel.se/medicine/laureates/2001/press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792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iosis is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of cell division by which germ cells (eggs and sperm) are produce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ne parent cell produces four daughter cell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aughter cells have half the number of chromosomes found in the original parent ce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666880"/>
            <a:ext cx="7620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meiosis, DNA replicates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n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but the nucleus divide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wic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5909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 stages can be described for each division of the nucle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33"/>
                </a:solidFill>
                <a:latin typeface="Arial"/>
              </a:rPr>
              <a:t>Meiosis I</a:t>
            </a:r>
            <a:endParaRPr b="0" lang="en-US" sz="48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752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362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division of me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First Division of 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ase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hromosome duplicates and remains closely associated. These are called sister chromat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s align at the center of the c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 pairs separate with sister chromatids remaining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ophase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wo daughter cells are formed with each daughter containing only one chromosome of the chromosome pai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9146" r="0" b="0"/>
          <a:stretch/>
        </p:blipFill>
        <p:spPr>
          <a:xfrm>
            <a:off x="533520" y="1752480"/>
            <a:ext cx="8076960" cy="4208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060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ta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668600"/>
            <a:ext cx="8001000" cy="44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elophase 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20612" r="0" b="0"/>
          <a:stretch/>
        </p:blipFill>
        <p:spPr>
          <a:xfrm>
            <a:off x="1371600" y="1523880"/>
            <a:ext cx="6477120" cy="4632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veryschool.org/u/logan/cellreproductionx/rogersa/research/meiosis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Animated Cycle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www.cellsalive.com/cell_cycle.ht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Division of Me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Second Division of 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NA does not replic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hromosomes line up at the center of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meres divide and sister chromatids move separately to each p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ophase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ll division is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ur haploid daughter cells are form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Pro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28150" r="0" b="0"/>
          <a:stretch/>
        </p:blipFill>
        <p:spPr>
          <a:xfrm>
            <a:off x="1828800" y="1447920"/>
            <a:ext cx="5334120" cy="4663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ta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1776240"/>
            <a:ext cx="7924680" cy="4338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ccff"/>
                </a:solidFill>
                <a:uFillTx/>
                <a:latin typeface="Arial"/>
                <a:hlinkClick r:id="rId2"/>
              </a:rPr>
              <a:t>http://everyschool.org/u/logan/cellreproductionx/rogersa/research/meiosis.html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Telophase II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1778040"/>
            <a:ext cx="8229600" cy="4246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632448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everyschool.org/u/logan/cellreproductionx/rogersa/research/meiosis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00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iosci.uga.edu/almanac/bio_103/notes/apr_3.htm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eiosis Animation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157644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6095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othamsted.bbsrc.ac.uk/notebook/courses/guide/movie/meiosis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Differences in Mitosis &amp; Meiosis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ivides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information is ident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x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divides tw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haploid daughter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information is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Comparison Animation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438280"/>
            <a:ext cx="8305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pbs.org/wgbh/nova/baby/divi_flash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usoe.k12.ut.us/curr/science/sciber00/7th/genetics/sciber/animatin.ht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33"/>
                </a:solidFill>
                <a:latin typeface="Arial"/>
              </a:rPr>
              <a:t>MITOSIS </a:t>
            </a:r>
            <a:endParaRPr b="0" lang="en-US" sz="7200" spc="-1" strike="noStrike">
              <a:solidFill>
                <a:srgbClr val="ccff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600200"/>
            <a:ext cx="8458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rocess of cell division which results in the production of two daughter cells from a single parent cell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daughter cells are identical to one another and to the original parent c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Mitosis can be divided into stages 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198108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a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ophase &amp; Cytokine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Inter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fo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3884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elles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increases in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761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elles re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increases in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35906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33"/>
                </a:solidFill>
                <a:latin typeface="Arial"/>
              </a:rPr>
              <a:t>Interphase</a:t>
            </a:r>
            <a:endParaRPr b="0" lang="en-US" sz="54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6812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991040" y="26812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32448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graphs from: http://www.bioweb.uncc.edu/biol1110/Stages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Arial"/>
              </a:rPr>
              <a:t>Prophase</a:t>
            </a:r>
            <a:br>
              <a:rPr sz="4000"/>
            </a:b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The cell prepares for nuclear division</a:t>
            </a:r>
            <a:endParaRPr b="0" lang="en-US" sz="4000" spc="-1" strike="noStrike">
              <a:solidFill>
                <a:srgbClr val="ccff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es DNA into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600" y="22856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ages DNA into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819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3:38:29Z</dcterms:created>
  <dc:creator>Mary Poarch</dc:creator>
  <dc:description/>
  <dc:language>en-US</dc:language>
  <cp:lastModifiedBy>Mary Poarch</cp:lastModifiedBy>
  <dcterms:modified xsi:type="dcterms:W3CDTF">2005-02-13T21:02:50Z</dcterms:modified>
  <cp:revision>72</cp:revision>
  <dc:subject/>
  <dc:title>Mitosis</dc:title>
</cp:coreProperties>
</file>